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7050-41FC-4713-A737-272929B31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3CB2-0E8E-43BF-AF29-2BD57F92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663E-4D57-4D1C-9902-1283869D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1327-2620-4255-B9C7-645895055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5D60-9E1E-456F-8E4D-5686B7F2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F073-4380-4530-94D7-5C432D1A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1EC5-927C-43EC-A4B7-6150A037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7BDE-44D8-442E-A519-3FAE079E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64B8-CBC2-4FC5-BCDA-ED6A68E7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40B6-0211-4B89-B3FD-C4A9F2C7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5C6D-BAE6-45D3-B2AB-680C9B89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6B8B-5330-46B6-B34F-2A1B1E4A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5672-E562-4AA9-9DA7-08DF15264B3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b1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az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3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600" spc="-1" strike="noStrike">
                <a:solidFill>
                  <a:srgbClr val="000000"/>
                </a:solidFill>
                <a:latin typeface="Calibri"/>
              </a:rPr>
              <a:t>Moja klasa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000000"/>
                </a:solidFill>
                <a:latin typeface="Calibri"/>
              </a:rPr>
              <a:t>Na informaty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 Light"/>
              </a:rPr>
              <a:t>Nauczycie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ole tekstowe 4"/>
          <p:cNvSpPr/>
          <p:nvPr/>
        </p:nvSpPr>
        <p:spPr>
          <a:xfrm>
            <a:off x="176040" y="2170080"/>
            <a:ext cx="673740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alekie są kraje i bliskie są kraj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dzie Dżamble pędzą życie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ielone głowy mają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bieskie ręce maj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po morzu pływają w sic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każdy pomyślał: "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Ach, oddałbym życi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Gdybym jak oni mógł także w tym si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W dalekie wyruszyć podróże!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an Lear 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O żeglarzach Dżambl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Symbol zastępczy zawartości 2" descr=""/>
          <p:cNvPicPr/>
          <p:nvPr/>
        </p:nvPicPr>
        <p:blipFill>
          <a:blip r:embed="rId1"/>
          <a:stretch/>
        </p:blipFill>
        <p:spPr>
          <a:xfrm>
            <a:off x="6784920" y="2170080"/>
            <a:ext cx="529272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 Light"/>
              </a:rPr>
              <a:t>Uczeń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0T21:18:45Z</dcterms:created>
  <dc:creator>Hilarion Gaf</dc:creator>
  <dc:description/>
  <dc:language>en-US</dc:language>
  <cp:lastModifiedBy>Hilarion Gaf</cp:lastModifiedBy>
  <dcterms:modified xsi:type="dcterms:W3CDTF">2014-01-02T10:47:33Z</dcterms:modified>
  <cp:revision>8</cp:revision>
  <dc:subject/>
  <dc:title>Paracetamol</dc:title>
</cp:coreProperties>
</file>